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DBA-DE99-4CE8-872A-12163B55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B86-C12D-47C1-AD85-1CD4CFBF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697-0313-4071-B6D8-1172B18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B0F-8B4F-410D-98D2-0CA34976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B48-8D01-4DE9-AC73-A1E18FA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7A0-E9B1-47B1-B1CD-A07308A2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B66-FDD7-4425-B283-286B681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778-CD3A-4365-8EDC-5E03471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6C3-2F30-4A9C-B56F-9A22FD4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1C-7493-4B39-B1C7-2843EC4E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4A9-7298-40AF-9939-FAE189A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1F9-D4FF-4E5A-8AD8-314CA2F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2AEF-B40A-4C99-A019-B2149B85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Daw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469200">
            <a:off x="7620120" y="0"/>
            <a:ext cx="1523880" cy="2590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2400" y="2590920"/>
            <a:ext cx="1371600" cy="22096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4800600"/>
            <a:ext cx="1447920" cy="20574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0"/>
            <a:ext cx="1523880" cy="2362320"/>
          </a:xfrm>
          <a:prstGeom prst="ellips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6095880" y="3200400"/>
            <a:ext cx="1828800" cy="13716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0"/>
            <a:ext cx="1371600" cy="2514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952880"/>
            <a:ext cx="1371600" cy="1905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43400"/>
            <a:ext cx="1371600" cy="25146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680"/>
            <a:ext cx="1218960" cy="23623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0"/>
            <a:ext cx="1676520" cy="259092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419720"/>
            <a:ext cx="1676520" cy="24382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880"/>
            <a:ext cx="1295280" cy="205740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800600"/>
            <a:ext cx="1295280" cy="20574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666880"/>
            <a:ext cx="1295640" cy="205740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290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__/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=‘.’=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)_(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8:14:13Z</dcterms:created>
  <dc:creator>USER</dc:creator>
  <dc:description/>
  <dc:language>en-US</dc:language>
  <cp:lastModifiedBy>sdawson</cp:lastModifiedBy>
  <dcterms:modified xsi:type="dcterms:W3CDTF">2011-04-04T18:41:20Z</dcterms:modified>
  <cp:revision>4</cp:revision>
  <dc:subject/>
  <dc:title>Elizabeth Dawson</dc:title>
</cp:coreProperties>
</file>